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B7B5-B5E4-43EF-A908-3A8042DAB4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Responsabilità del servizio di Prevenzione e Protezione è affidata all’esterno a TECNOCAMERE Società di Consulenza Tecnica del Sistema Came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3C9-B4B0-44BC-BC50-1DE2807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84A-E529-49AE-B81B-5C43A5FB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F2-BECA-4963-A1E6-FA0D10E9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AB9-83FB-4269-854D-42CBE2D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16FA-463D-4D3B-AF87-33670ACB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EB2D-2CEF-4BAF-96FC-2488A68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786-AF4E-4EA4-96A1-F2C64AE7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11F-6DDA-49C7-90D1-B075497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3157-34BC-4091-864B-9BF3B45B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0B93-D180-4CE2-8CC3-38AD55F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318-3821-4CF3-90F6-364E033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862-841F-4256-9F13-8C6E3B37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F995-59B3-4006-BD17-F7027974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2FB-87EA-493A-AF98-553001C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7732-C610-48AD-8B22-B0389C8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FBD4-A199-47BB-8931-C9CB1786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607B-DB98-41DF-BA10-6821A87D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E25-DBD1-4D73-BCF7-74EFE9B0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FB-79F7-40AC-8DD8-60F7A6EB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5E3-A376-418D-86FF-B9105DDF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DB9-E2AB-4871-AE12-D75C4CD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2CA-D972-4F01-8791-98CBDD4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ED8-2067-422B-BA21-CC2C559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22F-B74C-49C5-92B9-0947497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EC6-6A0F-4B04-B29E-28324BD144B0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682-35DD-4039-B57F-9272422B05D4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743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A GESTIONE DELLA SICUREZZA SUI LUOGHI DI LAVORO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PETTI TECNICI E TESTIMONIANZ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Un’esperienza in tema di organizzazione della sicurezza in un Ente Pubblic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9960" y="5734080"/>
            <a:ext cx="799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Avv. Mario Esti – Dirigente C.C.I.A.A. di Napoli – Area Gestione del Personale e della Sicurezza del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9856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SP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Servizio di Prevenzione e Protezion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atore di Lavoro: Avv. Mario Est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SPP Esterno: Geom. Piero Lova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ddetto Esterno: Ing. Giuseppe Tammaro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edico Comp.: Dott. Paolo Chiarola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2 RLS:  Giovanna Cuppone, Carmela Albig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di: 3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ttività: Uffic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Lavoratori: circa 14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Antincendi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Primo Soccors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77004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9B4-ACD8-4F66-BFA8-28CF6ACD63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Interventi nella SEDE di Via S.Aspreno (P.zza G.Bovio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strisce antiscivol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corrimano ad altezza 1 metro lungo la balaustra interna del secondo pian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mpianto di allertamento in caso di incendio/evacuazion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lluminazione di emergenza, cartellonistica di sicurezza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740720" y="1268280"/>
            <a:ext cx="9111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201-C37B-44F9-B4E4-C4CB584704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he e misura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i fonometriche nel salone sportelli pubblico del Registro delle Impres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Verifiche impianti di terra ai sensi del DPR 462/01 (ultima, in CORSO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e del gas RADON ai sensi del DLgs 241/00 in “Attuazione della direttiva 96/29/EURATOM in materia di protezione sanitaria della popolazione e dei lavoratori contro i rischi derivanti dalle radiazioni ionizzanti”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83844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8EE-E8B4-4CA0-A8A4-4CF232C73C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0360" y="2903400"/>
            <a:ext cx="203220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2036520" cy="288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2933640"/>
            <a:ext cx="1932120" cy="28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7740720" y="549360"/>
            <a:ext cx="91116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FB4-6178-49C9-83E5-C31EAFA8F7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antincendio Rischio Medio – ai sensi del DM 10 marzo 2008 (settem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Primo Soccorso – ai sensi del DM 388/2003 (otto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85080" y="549360"/>
            <a:ext cx="766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D0D-BAB7-484F-87FE-9D46212207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 200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dirigenti e capiserviz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Prove di evacuazione edific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C95-9ADF-487A-BE11-58FFA04492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555560"/>
            <a:ext cx="66978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Grazie per l’attenzio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Avv. Mario Es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Dirigente Area Personale e Sicurezza sul Lavor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ario.esti@nap.camcom.i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775-95C0-487B-9FA1-85D44C8235C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39:03Z</dcterms:created>
  <dc:creator>Giuseppe Tammaro</dc:creator>
  <dc:description/>
  <dc:language>en-US</dc:language>
  <cp:lastModifiedBy>Eventi</cp:lastModifiedBy>
  <dcterms:modified xsi:type="dcterms:W3CDTF">2010-01-21T06:23:46Z</dcterms:modified>
  <cp:revision>10</cp:revision>
  <dc:subject/>
  <dc:title>LA GESTIONE DELLA SICUREZZA SUI LUOGHI DI LAVORO: ASPETTI TECNICI E TESTIMONIANZE</dc:title>
</cp:coreProperties>
</file>